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6.jpeg" ContentType="image/jpeg"/>
  <Override PartName="/ppt/media/image8.png" ContentType="image/png"/>
  <Override PartName="/ppt/media/image1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4DA1-655A-401D-B284-CECF90770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9813-E00C-4387-A6F4-D189A672B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4B4A-6B6B-486F-991C-84A99E81D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6C4-1470-4A71-9BC2-EC2684339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F193-B002-4D65-B4BD-969ED74C0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EEC0-5278-4CCB-A90C-CC8E5E098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DA6A-2E42-4E9B-A282-09695A8A3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2E61-8713-4094-934C-1BD1A237B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2681-D4DE-48F7-9216-F24201264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80FE-4C86-4871-913F-98684DE7F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DC12-34C8-4306-B0D8-97260B427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E979-5849-43B8-B798-A7E25EAD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32DB-7353-441A-87D5-87E66A4FB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DE32-76DC-4DBC-A822-F22062A0D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1CA67-C920-4A8F-936C-483728994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458A5-2DFE-460A-BC62-9DB84C4D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E3DB-4928-4FC0-AD4B-97F080920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F9F28-F2B3-4260-AFB3-4C489F8CB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8C6A2-BB2C-4963-A594-DD340DD5B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5C911-2A2A-4F6E-9B9B-2B4BA9770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6E041-E5AD-44DC-804C-F0CFD0895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2D762-791D-44A0-AAEF-9D75D06CC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E46A9-47A0-43D9-A355-0B9E8EC5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C74E2-A373-4095-B496-DDB402738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D75F-9657-4417-9785-FF1238C7C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15DA-EA9A-4295-A194-8A09DB02F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2569-2F68-4A2C-8C2F-1D9F64FD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8322-42AC-4727-BE4B-868E851B3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438BB-75EF-4C9E-84BA-FCEF6999B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99781-B8E1-45DD-A360-5219F9E08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BD933-1C82-4367-897E-4B49E0CB5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096097-AFC8-4BA1-9B81-9074B5DFA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95AD3-5812-4A75-9A87-10B6F157F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D3AA7-38C8-49A8-B540-9CBE05FF1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D3866-7124-4D5E-AE5F-D10975E08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7532C-2705-47B2-83A8-F5C176B3B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2D26C-296B-4692-A93C-5A385B83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C42DB-E2A0-447F-8686-8E1DB3F6E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592E2-409C-40B9-A6A4-AA28216C2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F12F5-0A15-4B92-BC17-79CB856E6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FA282-F324-4C40-9339-3C7F8F1D2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10603-386A-4C51-91CD-4CCEC4DBC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9C6CF-ED0C-41BA-8F93-4878571C0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C27725-E998-4E5B-8AAD-7B61C18660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457F53-9558-44B2-B020-42F59AF7C7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82EC0-9B9B-4DE1-8707-0A7A43765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5049C-9D99-4BAC-ABC7-5A93C27AE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2AF7-CAE7-4AE2-BDC7-895E438F4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CF718-0DF2-4D7D-8ABD-26692C69E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AFD28-388C-4A10-9154-D832B3CA2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18369-3B6C-4D25-9EB0-438306370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A2A57-D65A-4D6A-A47E-BE5AB52BB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E9349-D239-449A-AA10-7AEDFCF59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9FCE0-88D5-452A-B50B-A639FAD62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4882B-EF0C-4C9E-8688-3061A4B40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610A1-DB1B-4670-9362-066D9A87A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6C2D0-038E-43E3-BF14-6E31670DD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4CEBF0-F272-4FDB-9941-83509645D9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C9DE-8E9D-4FF9-89BD-D82C138E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D9597-B5A5-4340-86D1-B2FBF9F64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7BB46-0EA0-430C-9309-22E93F8C2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EEFD2-B8E2-4F7E-8614-BF65515F2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038B7-CB87-40F6-97B2-EFE66EE7A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09068-70D6-4FE2-9C79-C861BE3A2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045FA-C72D-4998-96AC-A0BD07E5A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9D37D-4899-43D8-9C65-0A1E2213B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A44D7-3008-43B2-8473-F365A04D2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5D3FD9-98FA-44AE-86A5-923508C0C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6EDF55-B34D-4DC8-A62A-86BFF4C7A7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4DB0-DA0E-49DA-9767-5EB88B68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68F4D-05AF-4243-9E41-B810FF6742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0EBF-0CC6-41C6-86B8-E02A4DF9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0E24-9A08-463D-A164-CB438B45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8E62-307F-4CCD-A2E4-72D5009D1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340D-747A-4DBD-8BB2-67D69D666F0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3472-11E2-442D-B89C-6EEB460F9CE1}"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539B-33F3-4728-B69A-7F863310EBFD}"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3FC8-37C1-4596-8C1F-2171283602AF}"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B4AA-CC9F-4E1D-9AED-D1BDC2093068}"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975040" y="231840"/>
            <a:ext cx="5790960" cy="1981080"/>
          </a:xfrm>
          <a:prstGeom prst="rect">
            <a:avLst/>
          </a:prstGeom>
          <a:ln w="0">
            <a:noFill/>
          </a:ln>
        </p:spPr>
      </p:pic>
      <p:sp>
        <p:nvSpPr>
          <p:cNvPr id="228" name="PlaceHolder 1"/>
          <p:cNvSpPr>
            <a:spLocks noGrp="1"/>
          </p:cNvSpPr>
          <p:nvPr>
            <p:ph type="subTitle"/>
          </p:nvPr>
        </p:nvSpPr>
        <p:spPr>
          <a:xfrm>
            <a:off x="2743200" y="3962520"/>
            <a:ext cx="6400800" cy="274320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uston ISD </a:t>
            </a:r>
            <a:endParaRPr b="0" lang="en-US" sz="3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ech Therapy Program</a:t>
            </a:r>
            <a:endParaRPr b="0" lang="en-US" sz="3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9" name="rg_hi" descr="http://t0.gstatic.com/images?q=tbn:ANd9GcSr9_6TViJ8fhGUGe0X6LOTM-636LH__YBvhPQZr78RSUfVJl49"/>
          <p:cNvPicPr/>
          <p:nvPr/>
        </p:nvPicPr>
        <p:blipFill>
          <a:blip r:embed="rId2"/>
          <a:stretch/>
        </p:blipFill>
        <p:spPr>
          <a:xfrm>
            <a:off x="3581280" y="1981080"/>
            <a:ext cx="4648320" cy="1905120"/>
          </a:xfrm>
          <a:prstGeom prst="rect">
            <a:avLst/>
          </a:prstGeom>
          <a:ln w="0">
            <a:noFill/>
          </a:ln>
        </p:spPr>
      </p:pic>
      <p:pic>
        <p:nvPicPr>
          <p:cNvPr id="230" name="Picture 5" descr="BW Logo HISD"/>
          <p:cNvPicPr/>
          <p:nvPr/>
        </p:nvPicPr>
        <p:blipFill>
          <a:blip r:embed="rId3"/>
          <a:stretch/>
        </p:blipFill>
        <p:spPr>
          <a:xfrm>
            <a:off x="380880" y="38088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378000" y="298440"/>
            <a:ext cx="7527600" cy="14209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a:t>
            </a:r>
            <a:r>
              <a:rPr b="0" lang="en-US" sz="2400" spc="-1" strike="noStrike">
                <a:solidFill>
                  <a:srgbClr val="000000"/>
                </a:solidFill>
                <a:latin typeface="Trebuchet MS"/>
              </a:rPr>
              <a:t>	</a:t>
            </a:r>
            <a:r>
              <a:rPr b="0" lang="en-US" sz="2400" spc="-1" strike="noStrike">
                <a:solidFill>
                  <a:srgbClr val="000000"/>
                </a:solidFill>
                <a:latin typeface="Trebuchet MS"/>
              </a:rPr>
              <a:t>Let the student you are helping to eat rest for 30 minutes before feeding; a rested person is less likely to have problems while chewing and swallow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a:t>
            </a:r>
            <a:r>
              <a:rPr b="0" lang="en-US" sz="2400" spc="-1" strike="noStrike">
                <a:solidFill>
                  <a:srgbClr val="000000"/>
                </a:solidFill>
                <a:latin typeface="Trebuchet MS"/>
              </a:rPr>
              <a:t>	</a:t>
            </a:r>
            <a:r>
              <a:rPr b="0" lang="en-US" sz="2400" spc="-1" strike="noStrike">
                <a:solidFill>
                  <a:srgbClr val="000000"/>
                </a:solidFill>
                <a:latin typeface="Trebuchet MS"/>
              </a:rPr>
              <a:t>Make sure the student is sitting upright in a chair while eat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a:t>
            </a:r>
            <a:r>
              <a:rPr b="0" lang="en-US" sz="2400" spc="-1" strike="noStrike">
                <a:solidFill>
                  <a:srgbClr val="000000"/>
                </a:solidFill>
                <a:latin typeface="Trebuchet MS"/>
              </a:rPr>
              <a:t>	</a:t>
            </a:r>
            <a:r>
              <a:rPr b="0" lang="en-US" sz="2400" spc="-1" strike="noStrike">
                <a:solidFill>
                  <a:srgbClr val="000000"/>
                </a:solidFill>
                <a:latin typeface="Trebuchet MS"/>
              </a:rPr>
              <a:t>Don’t hurry through feeding!  Let the student rest if they become tired while eat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a:t>
            </a:r>
            <a:r>
              <a:rPr b="0" lang="en-US" sz="2400" spc="-1" strike="noStrike">
                <a:solidFill>
                  <a:srgbClr val="000000"/>
                </a:solidFill>
                <a:latin typeface="Trebuchet MS"/>
              </a:rPr>
              <a:t>	</a:t>
            </a:r>
            <a:r>
              <a:rPr b="0" lang="en-US" sz="2400" spc="-1" strike="noStrike">
                <a:solidFill>
                  <a:srgbClr val="000000"/>
                </a:solidFill>
                <a:latin typeface="Trebuchet MS"/>
              </a:rPr>
              <a:t>Alternate between bites of solid food and drinks of liquid. Make sure each bite/sip is swallowed completely before presenting the next bite/sip.</a:t>
            </a:r>
            <a:endParaRPr b="0" lang="en-US" sz="2400" spc="-1" strike="noStrike">
              <a:solidFill>
                <a:srgbClr val="000000"/>
              </a:solidFill>
              <a:latin typeface="Trebuchet MS"/>
            </a:endParaRPr>
          </a:p>
          <a:p>
            <a:pPr marL="514440" indent="-5144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378000" y="298440"/>
            <a:ext cx="7527600" cy="142704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fontScale="98000"/>
          </a:bodyPr>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5</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Make sure the student is awake and alert before you feed him or her.</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 </a:t>
            </a:r>
            <a:r>
              <a:rPr b="0" lang="en-US" sz="2400" spc="-1" strike="noStrike">
                <a:solidFill>
                  <a:srgbClr val="000000"/>
                </a:solidFill>
                <a:latin typeface="Trebuchet MS"/>
              </a:rPr>
              <a:t>	</a:t>
            </a:r>
            <a:r>
              <a:rPr b="0" lang="en-US" sz="2400" spc="-1" strike="noStrike">
                <a:solidFill>
                  <a:srgbClr val="000000"/>
                </a:solidFill>
                <a:latin typeface="Trebuchet MS"/>
              </a:rPr>
              <a:t>Always allow the student to feed him or her self if he or she is capable.</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a:t>
            </a:r>
            <a:r>
              <a:rPr b="0" lang="en-US" sz="2400" spc="-1" strike="noStrike">
                <a:solidFill>
                  <a:srgbClr val="000000"/>
                </a:solidFill>
                <a:latin typeface="Trebuchet MS"/>
              </a:rPr>
              <a:t>	</a:t>
            </a:r>
            <a:r>
              <a:rPr b="0" lang="en-US" sz="2400" spc="-1" strike="noStrike">
                <a:solidFill>
                  <a:srgbClr val="000000"/>
                </a:solidFill>
                <a:latin typeface="Trebuchet MS"/>
              </a:rPr>
              <a:t>Follow the student’s diet order strictly.  Do not allow the student to eat foods that do not comply with the diet ordered by the doctor, even if the student seems to tolerate it.</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a:t>
            </a:r>
            <a:r>
              <a:rPr b="0" lang="en-US" sz="2400" spc="-1" strike="noStrike">
                <a:solidFill>
                  <a:srgbClr val="000000"/>
                </a:solidFill>
                <a:latin typeface="Trebuchet MS"/>
              </a:rPr>
              <a:t>	</a:t>
            </a:r>
            <a:r>
              <a:rPr b="0" lang="en-US" sz="2400" spc="-1" strike="noStrike">
                <a:solidFill>
                  <a:srgbClr val="000000"/>
                </a:solidFill>
                <a:latin typeface="Trebuchet MS"/>
              </a:rPr>
              <a:t>Stop feeding the student after 30 minutes or if the student is fatigued, whichever comes first.</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a:t>
            </a:r>
            <a:r>
              <a:rPr b="0" lang="en-US" sz="2400" spc="-1" strike="noStrike">
                <a:solidFill>
                  <a:srgbClr val="000000"/>
                </a:solidFill>
                <a:latin typeface="Trebuchet MS"/>
              </a:rPr>
              <a:t>	</a:t>
            </a:r>
            <a:r>
              <a:rPr b="0" lang="en-US" sz="2400" spc="-1" strike="noStrike">
                <a:solidFill>
                  <a:srgbClr val="000000"/>
                </a:solidFill>
                <a:latin typeface="Trebuchet MS"/>
              </a:rPr>
              <a:t>Provide oral care after all meals if the student tends to pocket.</a:t>
            </a:r>
            <a:endParaRPr b="0" lang="en-US" sz="2400" spc="-1" strike="noStrike">
              <a:solidFill>
                <a:srgbClr val="000000"/>
              </a:solidFill>
              <a:latin typeface="Trebuchet MS"/>
            </a:endParaRPr>
          </a:p>
          <a:p>
            <a:pPr marL="504000" indent="-504000">
              <a:spcBef>
                <a:spcPts val="601"/>
              </a:spcBef>
              <a:buClr>
                <a:srgbClr val="b13f9a"/>
              </a:buClr>
              <a:buSzPct val="73000"/>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4000" indent="-504000">
              <a:spcBef>
                <a:spcPts val="601"/>
              </a:spcBef>
              <a:buClr>
                <a:srgbClr val="b13f9a"/>
              </a:buClr>
              <a:buSzPct val="73000"/>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4000" indent="-504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4000" indent="-504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12760" y="324000"/>
            <a:ext cx="7547040" cy="143172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eding/Swallowing Notification Form is submitted</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ent/Guardian is informed of Concern</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eding Observation is completed by Dysphagia team member</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disciplinary meeting is conducted</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aining conducted with school personnel and parent to discuss Feeding Management Plan</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76320" y="1609200"/>
            <a:ext cx="8153280" cy="484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lease complete all fields of the Feeding and Swallowing Notification Form and submit to </a:t>
            </a:r>
            <a:r>
              <a:rPr b="0" lang="en-US" sz="2800" spc="-1" strike="noStrike">
                <a:solidFill>
                  <a:srgbClr val="0070c0"/>
                </a:solidFill>
                <a:latin typeface="Trebuchet MS"/>
              </a:rPr>
              <a:t>cbryant5@houstonisd.org</a:t>
            </a:r>
            <a:endParaRPr b="0" lang="en-US" sz="2800" spc="-1" strike="noStrike">
              <a:solidFill>
                <a:srgbClr val="000000"/>
              </a:solidFill>
              <a:latin typeface="Trebuchet MS"/>
            </a:endParaRPr>
          </a:p>
          <a:p>
            <a:pPr>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r further assistance, contact:</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val Bryant, Manager of Speech Therapy Programs  </a:t>
            </a:r>
            <a:r>
              <a:rPr b="0" lang="en-US" sz="2400" spc="-1" strike="noStrike">
                <a:solidFill>
                  <a:srgbClr val="0070c0"/>
                </a:solidFill>
                <a:latin typeface="Trebuchet MS"/>
              </a:rPr>
              <a:t>cbryant5@houstonisd.org or (713) 446-4072</a:t>
            </a:r>
            <a:endParaRPr b="0" lang="en-US" sz="2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2760" y="324000"/>
            <a:ext cx="7486560" cy="1431720"/>
          </a:xfrm>
          <a:prstGeom prst="rect">
            <a:avLst/>
          </a:prstGeom>
          <a:ln w="0">
            <a:noFill/>
          </a:ln>
        </p:spPr>
      </p:pic>
      <p:sp>
        <p:nvSpPr>
          <p:cNvPr id="23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It is the policy of the Houston Independent School District's Dysphagia Team to provide a Dysphagia Management Plan to students who have been identified as having feeding and/or swallowing difficulties in order to ensure adequate nutrition, hydration, and swallowing safety at school; and to provide training to appropriate campus personnel as needed.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Dysphagia</a:t>
            </a:r>
            <a:r>
              <a:rPr b="0" lang="en-US" sz="2600" spc="-1" strike="noStrike">
                <a:solidFill>
                  <a:srgbClr val="000000"/>
                </a:solidFill>
                <a:latin typeface="Trebuchet MS"/>
              </a:rPr>
              <a:t> is the medical term for swallowing disorder.</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 is defined as a disturbance in the normal transfer of food from the mouth through the pharynx (throat) and into the esophagus.</a:t>
            </a:r>
            <a:endParaRPr b="0" lang="en-US" sz="2600" spc="-1" strike="noStrike">
              <a:solidFill>
                <a:srgbClr val="000000"/>
              </a:solidFill>
              <a:latin typeface="Trebuchet MS"/>
            </a:endParaRPr>
          </a:p>
        </p:txBody>
      </p:sp>
      <p:pic>
        <p:nvPicPr>
          <p:cNvPr id="235" name="Picture 5" descr="http://t0.gstatic.com/images?q=tbn:ANd9GcQgejAN1Ng3oPEEKF3WXtSqw8LbranPaVetrHmqquwN2ROwONzPKw"/>
          <p:cNvPicPr/>
          <p:nvPr/>
        </p:nvPicPr>
        <p:blipFill>
          <a:blip r:embed="rId2"/>
          <a:stretch/>
        </p:blipFill>
        <p:spPr>
          <a:xfrm>
            <a:off x="2514600" y="220968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24000"/>
            <a:ext cx="7589880" cy="1431720"/>
          </a:xfrm>
          <a:prstGeom prst="rect">
            <a:avLst/>
          </a:prstGeom>
          <a:ln w="0">
            <a:noFill/>
          </a:ln>
        </p:spPr>
      </p:pic>
      <p:sp>
        <p:nvSpPr>
          <p:cNvPr id="237" name=""/>
          <p:cNvSpPr txBox="1"/>
          <p:nvPr/>
        </p:nvSpPr>
        <p:spPr>
          <a:xfrm>
            <a:off x="457200" y="1609200"/>
            <a:ext cx="7238880" cy="4846680"/>
          </a:xfrm>
          <a:prstGeom prst="rect">
            <a:avLst/>
          </a:prstGeom>
          <a:noFill/>
          <a:ln w="9360">
            <a:solidFill>
              <a:srgbClr val="b83d68"/>
            </a:solidFill>
            <a:miter/>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follow up on notification of students suspected of having difficulty swallowing</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ensure that we have an appropriate diet order from the student’s Doctor if needed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develop a written plan for feeding/swallowing to be followed at school</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provide training for staff who will be responsible for feeding the student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44440" y="298440"/>
            <a:ext cx="7551720" cy="142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eech-Language Patholog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cupational Therap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Therap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urs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en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274680"/>
            <a:ext cx="7486560" cy="1011240"/>
          </a:xfrm>
          <a:prstGeom prst="rect">
            <a:avLst/>
          </a:prstGeom>
          <a:ln w="0">
            <a:noFill/>
          </a:ln>
        </p:spPr>
      </p:pic>
      <p:sp>
        <p:nvSpPr>
          <p:cNvPr id="241" name=""/>
          <p:cNvSpPr txBox="1"/>
          <p:nvPr/>
        </p:nvSpPr>
        <p:spPr>
          <a:xfrm>
            <a:off x="533520" y="4343040"/>
            <a:ext cx="7238880" cy="1523880"/>
          </a:xfrm>
          <a:prstGeom prst="rect">
            <a:avLst/>
          </a:prstGeom>
          <a:noFill/>
          <a:ln w="0">
            <a:noFill/>
          </a:ln>
        </p:spPr>
        <p:txBody>
          <a:bodyPr anchor="t">
            <a:normAutofit fontScale="80000"/>
          </a:bodyPr>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piration is the medical term for inhaling food or liquid into the lungs (food or liquid “going down the wrong pipe”).  This person is aspirating.</a:t>
            </a:r>
            <a:endParaRPr b="0" lang="en-US" sz="20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piration may occur without any signs or symptoms(Silent Aspiration).  The first sign of aspiration may be trouble breathing or signs of pneumonia.  </a:t>
            </a:r>
            <a:endParaRPr b="0" lang="en-US" sz="20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5" descr="http://t1.gstatic.com/images?q=tbn:ANd9GcQR4QcFdJE5LBOHIWQmGoUZAxyVo2PRB3wI_WmNH0nVA0_YlojA"/>
          <p:cNvPicPr/>
          <p:nvPr/>
        </p:nvPicPr>
        <p:blipFill>
          <a:blip r:embed="rId2"/>
          <a:stretch/>
        </p:blipFill>
        <p:spPr>
          <a:xfrm>
            <a:off x="1676520" y="99072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44440" y="298440"/>
            <a:ext cx="7454880" cy="142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ghing before or after swallow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cessive drooling, especially during meal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Pocketing food inside the cheek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Choking/gagging on certain foo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se running or sneezing during meal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or or absent chew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ouble swallowing certain types of liqui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atery eyes during mea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od/liquid spilling from mout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od/liquid coming out of the nos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68200"/>
            <a:ext cx="7454880" cy="1474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ing a very long time to finish a meal (meals should take no more than 30 minutes)</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Getting tired during the meal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Refusal to eat certain foods or finish a meal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complaint of feeling like something is caught in the throat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gurgly voice during or after eating or drinking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cessive throat clearing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peated episodes of upper respiratory infections/pneumoni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12760" y="324000"/>
            <a:ext cx="7486560" cy="143172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creased or absent gag reflex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eakness of the muscles that are used in chewing and swallow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ving a seizure disorder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ating too fast or stuffing your mout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edication side effects that relax the muscles used for chewing and swallowing, decrease the gag reflex or make a person too sleep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6:47:14Z</dcterms:created>
  <dc:creator>HISD</dc:creator>
  <dc:description/>
  <dc:language>en-US</dc:language>
  <cp:lastModifiedBy>Administrator</cp:lastModifiedBy>
  <dcterms:modified xsi:type="dcterms:W3CDTF">2013-08-30T13:25:04Z</dcterms:modified>
  <cp:revision>92</cp:revision>
  <dc:subject/>
  <dc:title>Dysphagia team training</dc:title>
</cp:coreProperties>
</file>